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4.jpeg" ContentType="image/jpeg"/>
  <Override PartName="/ppt/media/image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4.jpeg" ContentType="image/jpeg"/>
  <Override PartName="/ppt/media/image25.jpeg" ContentType="image/jpeg"/>
  <Override PartName="/ppt/media/image10.jpeg" ContentType="image/jpeg"/>
  <Override PartName="/ppt/media/Blue%20Mount%20hele%20mooie..wav" ContentType="audio/x-wav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18A2-F7AD-467A-B09C-ECC7233E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C703-9D64-4505-928B-B0819CF9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4B61-F909-41A2-896F-C4A30BC7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6D32-DA82-49A5-BC68-56890B98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2A34-6C0F-4894-B7AB-C886F83E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68C9-6ADE-41E9-90BF-25D7B9C9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A32E-8883-4FE3-82DA-13774D75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06D-A7B5-4A87-BECB-685209C4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160"/>
            <a:ext cx="8221680" cy="66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424E-B671-4AD1-A9DC-C895B450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D09A-79E8-4FAB-9DC2-4817E2DC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C1ED-5259-432E-88E3-77B4B170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BF2F-01DA-4C11-8224-BCF0015A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C70C2-FA6D-4AEF-A8F3-2C31C40A09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lue%20Mount%20hele%20mooie..wav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52560" y="2700360"/>
            <a:ext cx="381960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 photographi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e choix du bon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st trés important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67280" y="6232680"/>
            <a:ext cx="1264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Klik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5960" y="6156360"/>
            <a:ext cx="1264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liq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360360"/>
            <a:ext cx="128970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                  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ij het fotografer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 de keuz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an de juiste invalshoe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zeer belangrij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229600" cy="61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934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7162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76720" y="765000"/>
            <a:ext cx="180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iaporama PPS réalisé pour http://www.diaporamas-a-la-co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748720" cy="58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80880" y="272880"/>
            <a:ext cx="830592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324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7772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47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22960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00200" y="228600"/>
            <a:ext cx="5257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91540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3880" y="115920"/>
            <a:ext cx="57913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3880" y="189000"/>
            <a:ext cx="61722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00600" y="533412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98960" y="6261120"/>
            <a:ext cx="1768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2800" spc="-1" strike="noStrike">
                <a:solidFill>
                  <a:srgbClr val="ff0000"/>
                </a:solidFill>
                <a:latin typeface="Arial"/>
              </a:rPr>
              <a:t>The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51240" y="2895480"/>
            <a:ext cx="44355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Y o   t e   q u i e r o   C e l e s t i n a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933960" cy="646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3248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9917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4582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248520" cy="624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144360"/>
            <a:ext cx="708660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rman</cp:lastModifiedBy>
  <dcterms:modified xsi:type="dcterms:W3CDTF">2009-04-30T09:27:16Z</dcterms:modified>
  <cp:revision>15</cp:revision>
  <dc:subject/>
  <dc:title>PowerPoint-presentatie</dc:title>
</cp:coreProperties>
</file>