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4.jpeg" ContentType="image/jpeg"/>
  <Override PartName="/ppt/media/image3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10.jpeg" ContentType="image/jpeg"/>
  <Override PartName="/ppt/media/Blue%20Mount%20hele%20mooie..wav" ContentType="audio/x-wav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1800" cy="124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7A56-F530-4851-AC51-2040D6F4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460-6CB6-4AB4-9771-D9B413FA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375C-8E7A-4677-B4CD-0F4331AB4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6680" y="160020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6680" y="3960360"/>
            <a:ext cx="26470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C1A-F6EF-400A-982B-75BE5B23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1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31D7-C37A-4219-9F62-A7443B7C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097C-DEA6-4C2A-A717-156C1949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167E-2E40-4748-9F97-DE393F96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DD48-C4FA-4D19-AE1F-F013DC4F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160"/>
            <a:ext cx="8221680" cy="66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1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5A86-D138-4240-9274-DF78D851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A738-35F8-4D58-B119-0729F7FB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96036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280E-2AF1-4ACF-8B7B-1AA2F7DB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401184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360"/>
            <a:ext cx="8221680" cy="215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CCA5-7338-446B-90EA-8A0EDC10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71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87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AA10DA-4469-4379-AE61-A988DDB988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Blue%20Mount%20hele%20mooie..wav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52560" y="2700360"/>
            <a:ext cx="381960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 photographi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e choix du bon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st trés important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67280" y="6232680"/>
            <a:ext cx="1264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Kl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75960" y="6156360"/>
            <a:ext cx="12643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Cliq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360360"/>
            <a:ext cx="128970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"/>
              </a:rPr>
              <a:t>    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ij het fotografer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is de keuz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van de juiste invalshoe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  <a:tab algn="l" pos="11582280"/>
                <a:tab algn="l" pos="1230624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                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zeer belangrij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229600" cy="61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6934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716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6765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76720" y="765000"/>
            <a:ext cx="1800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aporama PPS réalisé pour http://www.diaporamas-a-la-con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748720" cy="58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272880"/>
            <a:ext cx="830592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7772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6477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3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257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915400" cy="624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1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3880" y="115920"/>
            <a:ext cx="579132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89000"/>
            <a:ext cx="61722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800600" y="5334120"/>
            <a:ext cx="1843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98960" y="6261120"/>
            <a:ext cx="1768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2800" spc="-1" strike="noStrike">
                <a:solidFill>
                  <a:srgbClr val="ff0000"/>
                </a:solidFill>
                <a:latin typeface="Arial"/>
              </a:rPr>
              <a:t>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51240" y="2895480"/>
            <a:ext cx="44355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Y o   t e   q u i e r o   C e l e s t i n a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152280"/>
            <a:ext cx="6933960" cy="646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95280" y="228600"/>
            <a:ext cx="632484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6248520" cy="62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1680" cy="14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66680" y="144360"/>
            <a:ext cx="7086600" cy="67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erman</cp:lastModifiedBy>
  <dcterms:modified xsi:type="dcterms:W3CDTF">2009-04-30T09:27:16Z</dcterms:modified>
  <cp:revision>15</cp:revision>
  <dc:subject/>
  <dc:title>PowerPoint-presentatie</dc:title>
</cp:coreProperties>
</file>