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mrehs%20Martyrdom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A73-C30F-4354-8EA0-3BF4F6A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554-CF0F-417B-B0F0-D973CAB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D41-8CF4-4C72-9D76-0806E9DB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E49-DC9F-4525-8CEA-B42BFB7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B6C-E4D4-47E6-9699-90820F33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38A-41DE-40F0-AF43-6E59A0B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D96-55F8-4BDF-8487-827821EE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2F5-4ADE-414A-9148-C3673AF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0A0-203A-48D5-A191-22F0C69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F73-929E-4364-B3D9-493B155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F39-D7B3-4143-9DAD-78AD0F6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746-5A45-43F9-ABF8-C03C366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B30-1610-4B3E-9B96-784ACECB89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mrehs%20Martyrdom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1.jpg"/>
          <p:cNvPicPr/>
          <p:nvPr/>
        </p:nvPicPr>
        <p:blipFill>
          <a:blip r:embed="rId1"/>
          <a:srcRect l="8268" t="0" r="10323" b="0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Omrehs%20Martyrdom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صورة 1" descr="2.jpg"/>
          <p:cNvPicPr/>
          <p:nvPr/>
        </p:nvPicPr>
        <p:blipFill>
          <a:blip r:embed="rId1"/>
          <a:stretch/>
        </p:blipFill>
        <p:spPr>
          <a:xfrm>
            <a:off x="-14400" y="11160"/>
            <a:ext cx="9196560" cy="6875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مجموعة 3"/>
          <p:cNvGrpSpPr/>
          <p:nvPr/>
        </p:nvGrpSpPr>
        <p:grpSpPr>
          <a:xfrm>
            <a:off x="0" y="-6480"/>
            <a:ext cx="9188280" cy="6875640"/>
            <a:chOff x="0" y="-6480"/>
            <a:chExt cx="9188280" cy="6875640"/>
          </a:xfrm>
        </p:grpSpPr>
        <p:pic>
          <p:nvPicPr>
            <p:cNvPr id="44" name="صورة 1" descr="3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8828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مستطيل 2"/>
            <p:cNvSpPr/>
            <p:nvPr/>
          </p:nvSpPr>
          <p:spPr>
            <a:xfrm>
              <a:off x="7715160" y="6500880"/>
              <a:ext cx="142848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صورة 1" descr="4.jpg"/>
          <p:cNvPicPr/>
          <p:nvPr/>
        </p:nvPicPr>
        <p:blipFill>
          <a:blip r:embed="rId1"/>
          <a:srcRect l="2425" t="0" r="2033" b="0"/>
          <a:stretch/>
        </p:blipFill>
        <p:spPr>
          <a:xfrm>
            <a:off x="-28440" y="-1440"/>
            <a:ext cx="91915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1" descr="5.jpg"/>
          <p:cNvPicPr/>
          <p:nvPr/>
        </p:nvPicPr>
        <p:blipFill>
          <a:blip r:embed="rId1"/>
          <a:stretch/>
        </p:blipFill>
        <p:spPr>
          <a:xfrm>
            <a:off x="-14400" y="-6480"/>
            <a:ext cx="918864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1" descr="6.jpg"/>
          <p:cNvPicPr/>
          <p:nvPr/>
        </p:nvPicPr>
        <p:blipFill>
          <a:blip r:embed="rId1"/>
          <a:stretch/>
        </p:blipFill>
        <p:spPr>
          <a:xfrm>
            <a:off x="0" y="4680"/>
            <a:ext cx="917892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صورة 1" descr="7.jpg"/>
          <p:cNvPicPr/>
          <p:nvPr/>
        </p:nvPicPr>
        <p:blipFill>
          <a:blip r:embed="rId1"/>
          <a:stretch/>
        </p:blipFill>
        <p:spPr>
          <a:xfrm>
            <a:off x="0" y="4680"/>
            <a:ext cx="917892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صورة 1" descr="8.jpg"/>
          <p:cNvPicPr/>
          <p:nvPr/>
        </p:nvPicPr>
        <p:blipFill>
          <a:blip r:embed="rId1"/>
          <a:srcRect l="1256" t="0" r="0" b="0"/>
          <a:stretch/>
        </p:blipFill>
        <p:spPr>
          <a:xfrm>
            <a:off x="14400" y="-6480"/>
            <a:ext cx="91231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صورة 1" descr="9.jpg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9:46:13Z</dcterms:created>
  <dc:creator>J.C.C</dc:creator>
  <dc:description/>
  <dc:language>en-US</dc:language>
  <cp:lastModifiedBy>J.C.C</cp:lastModifiedBy>
  <dcterms:modified xsi:type="dcterms:W3CDTF">2011-09-21T11:52:21Z</dcterms:modified>
  <cp:revision>3</cp:revision>
  <dc:subject/>
  <dc:title>الشريحة 1</dc:title>
</cp:coreProperties>
</file>